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549-19AE-47D3-A676-0361F30A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468-71A9-4140-B7CF-A2BC2BB8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A7F-9AE6-4827-96E0-23CD98D7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E71-92BB-4C08-AD2A-3FC229A2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A67-E6B2-4A49-AAED-921CF7C8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7F3-2BD7-45B9-A35E-2EFECAFC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712-D10E-4D51-9918-7722DD31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A38-E3BF-4B05-8DE9-7F6DD2E0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573-40ED-44B1-AB5A-A2A415B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36B-7798-46B9-90D5-5D98993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743-57A4-45B9-879C-8B34C22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FFC-6458-4F30-96C9-02B2B48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AB48-A0C3-44DC-9EBA-92C53AE88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32400" y="2060640"/>
            <a:ext cx="54446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3366ff"/>
                </a:solidFill>
                <a:latin typeface="Arial"/>
                <a:ea typeface="Gungsuh"/>
              </a:rPr>
              <a:t>    </a:t>
            </a:r>
            <a:r>
              <a:rPr b="1" lang="en-US" sz="5600" spc="-1" strike="noStrike">
                <a:solidFill>
                  <a:srgbClr val="3366ff"/>
                </a:solidFill>
                <a:latin typeface="Arial"/>
                <a:ea typeface="Gungsuh"/>
              </a:rPr>
              <a:t>Lesson 17: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3366ff"/>
                </a:solidFill>
                <a:latin typeface="Arial"/>
                <a:ea typeface="Gungsuh"/>
              </a:rPr>
              <a:t>Save the Tiger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395280" y="1341360"/>
            <a:ext cx="842472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颈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are the tallest animals on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beautiful __________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婚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clothes they a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Uncle Yan visited many ______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亚洲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countries last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He is interested in _______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580000" y="5661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096800" y="260280"/>
            <a:ext cx="83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99"/>
                </a:solidFill>
                <a:latin typeface="Arial"/>
              </a:rPr>
              <a:t>I. </a:t>
            </a:r>
            <a:r>
              <a:rPr b="1" lang="zh-CN" sz="3300" spc="-1" strike="noStrike">
                <a:solidFill>
                  <a:srgbClr val="990099"/>
                </a:solidFill>
                <a:latin typeface="Arial"/>
              </a:rPr>
              <a:t>根据句意及所给汉语提示，完成下列句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1077480" y="1413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Giraff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265280" y="27874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868720" y="430056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A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8000" y="1082520"/>
            <a:ext cx="903600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. One of the world's biggest zoos _____ (be) in Egy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My pet dog _____ (die) two weeks ag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_____ (bar) keep the animals insid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. They got ________ (marry) on August, 8th 2008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5. The Siberian tiger is the ______ (big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t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猫科动物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 in the worl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076720" y="5065560"/>
            <a:ext cx="180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99"/>
                </a:solidFill>
                <a:latin typeface="Arial"/>
              </a:rPr>
              <a:t>bigges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555360" y="404640"/>
            <a:ext cx="948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99"/>
                </a:solidFill>
                <a:latin typeface="Arial"/>
              </a:rPr>
              <a:t>II. </a:t>
            </a:r>
            <a:r>
              <a:rPr b="1" lang="zh-CN" sz="3300" spc="-1" strike="noStrike">
                <a:solidFill>
                  <a:srgbClr val="990099"/>
                </a:solidFill>
                <a:latin typeface="Arial"/>
              </a:rPr>
              <a:t>用所给单词的适当形式填空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920280" y="1227240"/>
            <a:ext cx="529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99"/>
                </a:solidFill>
                <a:latin typeface="Arial"/>
              </a:rPr>
              <a:t>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2844360" y="2492280"/>
            <a:ext cx="1041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99"/>
                </a:solidFill>
                <a:latin typeface="Arial"/>
              </a:rPr>
              <a:t>di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86160" y="3166920"/>
            <a:ext cx="111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99"/>
                </a:solidFill>
                <a:latin typeface="Arial"/>
              </a:rPr>
              <a:t>Ba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2491200" y="3841920"/>
            <a:ext cx="171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99"/>
                </a:solidFill>
                <a:latin typeface="Arial"/>
              </a:rPr>
              <a:t>marri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576360" y="1052640"/>
            <a:ext cx="86756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. Nobody else wants to go to the village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同义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 ____ _______ want to go to the villag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Liu Yang kept two dog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否定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iu Yang _____ _____ two dog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Those zoos have ten pandas.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同义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__ _____ ten pandas in those zoo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3440" y="5929200"/>
            <a:ext cx="2414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There  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467440" y="404640"/>
            <a:ext cx="168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99"/>
                </a:solidFill>
                <a:latin typeface="Arial"/>
              </a:rPr>
              <a:t>III. </a:t>
            </a:r>
            <a:r>
              <a:rPr b="1" lang="zh-CN" sz="3300" spc="-1" strike="noStrike">
                <a:solidFill>
                  <a:srgbClr val="990099"/>
                </a:solidFill>
                <a:latin typeface="Arial"/>
              </a:rPr>
              <a:t>句型转换，每空一词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85080" y="2276640"/>
            <a:ext cx="3370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No other peop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341440" y="4076640"/>
            <a:ext cx="249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didn't  kee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908000" y="765000"/>
            <a:ext cx="61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ff"/>
                </a:solidFill>
                <a:latin typeface="Arial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2120" y="2060640"/>
            <a:ext cx="838224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in groups and discuss some ways we can protect animals. Write down your id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250920" y="4581360"/>
            <a:ext cx="763272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) the number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) balance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) danger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149120" y="495360"/>
            <a:ext cx="43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I. Learning aim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44360" y="1197000"/>
            <a:ext cx="882036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ster the new words: century, fur, symbol, courage, brave, chain, balance, reason, disappear, kill, cut, decr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54880" y="3357720"/>
            <a:ext cx="85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II. Learning important and difficul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poin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1476360" y="378000"/>
            <a:ext cx="612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3366ff"/>
                </a:solidFill>
                <a:latin typeface="Arial"/>
              </a:rPr>
              <a:t>New Word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84360" y="1628640"/>
            <a:ext cx="792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99"/>
                </a:solidFill>
                <a:latin typeface="Arial"/>
              </a:rPr>
              <a:t>century                    fu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99"/>
                </a:solidFill>
                <a:latin typeface="Arial"/>
              </a:rPr>
              <a:t>symbol                 coura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99"/>
                </a:solidFill>
                <a:latin typeface="Arial"/>
              </a:rPr>
              <a:t>brave                     chai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99"/>
                </a:solidFill>
                <a:latin typeface="Arial"/>
              </a:rPr>
              <a:t>balance                reason disappear                 kil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99"/>
                </a:solidFill>
                <a:latin typeface="Arial"/>
              </a:rPr>
              <a:t>cut                       decreas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763640" y="1341360"/>
            <a:ext cx="5327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3366ff"/>
                </a:solidFill>
                <a:latin typeface="Arial"/>
              </a:rPr>
              <a:t>Think About I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9640" y="2852640"/>
            <a:ext cx="8353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can you usually see a tig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think tigers need our help? 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476360" y="1773360"/>
            <a:ext cx="5977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6699"/>
                </a:solidFill>
                <a:latin typeface="Arial"/>
              </a:rPr>
              <a:t>Languag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6699"/>
                </a:solidFill>
                <a:latin typeface="Arial"/>
              </a:rPr>
              <a:t>          </a:t>
            </a:r>
            <a:r>
              <a:rPr b="1" i="1" lang="en-US" sz="6600" spc="-1" strike="noStrike">
                <a:solidFill>
                  <a:srgbClr val="ff6699"/>
                </a:solidFill>
                <a:latin typeface="Arial"/>
              </a:rPr>
              <a:t>Poi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0716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At the beginning of the 20th century, the number of tigers in the wild was around 100 000. </a:t>
            </a: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在二十世纪初期，野生老虎的数量大约是十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固定短语，意为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数量”，后接可数名词复数，但中心词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所以谓语动词要用单数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number of students in our school has grown from 1,000 to more than 1,5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量词短语，意为“许多；大量”，相当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中心词是该短语所修饰的可数名词复数，所以作主语时，谓语动词用复数形式。 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number of students like playing computer ga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后退"/>
          <p:cNvPicPr/>
          <p:nvPr/>
        </p:nvPicPr>
        <p:blipFill>
          <a:blip r:embed="rId1"/>
          <a:stretch/>
        </p:blipFill>
        <p:spPr>
          <a:xfrm>
            <a:off x="8388360" y="6149880"/>
            <a:ext cx="755640" cy="708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. It helps keep the number of other wild animals in balance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它可以帮助保持其他野生动物的数量平衡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句中用作名词，意为“平衡；均衡”，常用短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out of balan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意为“不平衡”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balan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为“保持平衡”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作动词，表示“（使）平衡；（使）均衡”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You must learn to keep your balance in skating. 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在滑冰时你必须要学会保持平衡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后退"/>
          <p:cNvPicPr/>
          <p:nvPr/>
        </p:nvPicPr>
        <p:blipFill>
          <a:blip r:embed="rId1"/>
          <a:stretch/>
        </p:blipFill>
        <p:spPr>
          <a:xfrm>
            <a:off x="8388360" y="6149880"/>
            <a:ext cx="755640" cy="708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665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3.  In recent years, tigers have been in danger of disappearing. </a:t>
            </a: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近年来，老虎已经面临消失的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ng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为“危险”，通常是不可数名词，表示做某事的危险或发生某情况的危险等，常用短语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in danger (of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意为“在危险中”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s there any danger of fire?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有发生火灾的的危险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后退"/>
          <p:cNvPicPr/>
          <p:nvPr/>
        </p:nvPicPr>
        <p:blipFill>
          <a:blip r:embed="rId1"/>
          <a:stretch/>
        </p:blipFill>
        <p:spPr>
          <a:xfrm>
            <a:off x="8388360" y="6149880"/>
            <a:ext cx="755640" cy="70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7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7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7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763640" y="2708280"/>
            <a:ext cx="54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cc"/>
                </a:solidFill>
                <a:latin typeface="Arial"/>
              </a:rPr>
              <a:t>Exerci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19:28Z</dcterms:created>
  <dc:creator> </dc:creator>
  <dc:description> </dc:description>
  <dc:language>en-US</dc:language>
  <cp:lastModifiedBy>Administrator</cp:lastModifiedBy>
  <dcterms:modified xsi:type="dcterms:W3CDTF">2019-01-02T02:19:5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